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921E-D88D-41A2-832E-0D8D3F8F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C1B6-7914-422D-9BBF-AB164840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79D2-A599-4904-B2B9-013FABC7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AE09-6261-4C04-8477-7D8466454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2538-C905-47F6-88FB-2D846AD6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68C1-D32F-4CE6-B9B5-D162FAA9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8F42-741F-44C4-8FCA-98D6A7E8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C863-6249-408B-B80C-8E28890B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F2AC-67C3-4BFC-98F3-5AE94B09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5290-CB50-4CB0-9AE2-5956118E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806F-C971-454B-88D8-AD64CFA7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53DA-EFE8-40B5-91DF-8F85777A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F07C-A8FF-46EB-9FA3-B5496EC2DAFC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5290920" cy="7010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609480" y="8077320"/>
            <a:ext cx="57200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I dreamed I went to heaven. . 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76720" y="4419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6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4800600" cy="6553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609480" y="7620120"/>
            <a:ext cx="571500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As Jesus took your hand. . 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He said. . .Great is your reward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668920" cy="6933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609480" y="8077320"/>
            <a:ext cx="57200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Thank you for giving to the Lord. . 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5290920" cy="7010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609480" y="8077320"/>
            <a:ext cx="57200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I am so glad you gave!</a:t>
            </a:r>
            <a:endParaRPr b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5845320" cy="6705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1905120" y="3733920"/>
            <a:ext cx="24382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ank you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5459400" cy="6781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609480" y="8077320"/>
            <a:ext cx="57200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We heard the angels singing. . 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25560" y="990720"/>
            <a:ext cx="5373720" cy="6705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57200" y="7772400"/>
            <a:ext cx="64008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You used to teach my  school when I was only 8. . 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68320" y="1219320"/>
            <a:ext cx="5308560" cy="6476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09480" y="8077320"/>
            <a:ext cx="57200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I asked Jesus in my heart. . 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43120" y="838080"/>
            <a:ext cx="5506920" cy="6705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609480" y="8077320"/>
            <a:ext cx="57200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I am a life that was changed. . 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5200" y="914400"/>
            <a:ext cx="5368680" cy="6781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609480" y="8077320"/>
            <a:ext cx="57200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Another man stood before you. . 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3733560" cy="2432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76720" y="3962520"/>
            <a:ext cx="3098520" cy="2288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876920" y="1447920"/>
            <a:ext cx="1523880" cy="2195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066680" y="4038480"/>
            <a:ext cx="1905120" cy="2857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533520" y="7620120"/>
            <a:ext cx="57196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His pictures made you cry. . 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5251320" cy="6629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609480" y="8077320"/>
            <a:ext cx="57200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I am so glad you gave. . 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49338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609480" y="7848720"/>
            <a:ext cx="5562720" cy="88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One by one they came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as far as eye could see. . 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00:35:23Z</dcterms:created>
  <dc:creator>MERIT Mathtech</dc:creator>
  <dc:description/>
  <dc:language>en-US</dc:language>
  <cp:lastModifiedBy>Sister Edward Quinn</cp:lastModifiedBy>
  <dcterms:modified xsi:type="dcterms:W3CDTF">2010-04-22T16:17:46Z</dcterms:modified>
  <cp:revision>15</cp:revision>
  <dc:subject/>
  <dc:title>Slide 1</dc:title>
</cp:coreProperties>
</file>